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20DD-C7A8-4C24-B121-FA597725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E819-43B4-49B3-A992-A04B72B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EC67-5CDD-491E-99BB-345501DE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0C71-016B-449E-8FA4-31E17B09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2FE5-AC98-46FE-BE72-8FF799AD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5543-7CD0-4E9E-86A2-3E8431E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C204-26BD-4C7E-B7F8-BD5DB27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96A0-B429-43FB-B326-444300BB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DF6D-5167-4ECC-8282-6EBEB606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2C12-E858-4C29-B532-6AE6FCA6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4E64-ECE6-449F-8643-6927475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E4D2-7A80-465F-B3C5-E7DD10F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6A0B-0C71-4052-A7F9-916F542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C4A6-FC9B-4955-BF32-942863B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B31B-3D82-4482-A643-EA75671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A9E2-801A-4784-9E38-CAB2B6A7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2A4E-BFCE-4368-B09F-C9695D6A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DDC5-0AFC-488A-831D-91F563E6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BE3F-270B-419E-9D83-0745ACF6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EFFC-B31A-435B-953C-668A31AB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9981-0892-4F6E-A417-BA891E94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1A61-5A29-478B-AB8C-07DF1EC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26D5-1CE7-48EE-9243-7EE03AC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D327-B1C1-45D5-8ABE-BE475AEE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FA63-2308-4E0D-B339-9A675EA2E2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C645-9F35-442F-8C0C-5DC85C2F08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nors English II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Cruc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 II Re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beginning of the act, why does Elizabeth want John to go to Sal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uty has Mary Warren been performing in Sal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gift does Mary Warren give to Elizabe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Elizabeth, what is Abigail’s true objective in cour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questions does Hale ask John and Elizabeth to test their fai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 II Re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has Rebecca Nurse been jail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charges against Martha Cor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found in the poppet that supposedly proves Elizabeth’s guil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John want Mary to testif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07:12Z</dcterms:created>
  <dc:creator>wcpss</dc:creator>
  <dc:description/>
  <dc:language>en-US</dc:language>
  <cp:lastModifiedBy> James Watson</cp:lastModifiedBy>
  <dcterms:modified xsi:type="dcterms:W3CDTF">2009-09-02T02:24:18Z</dcterms:modified>
  <cp:revision>8</cp:revision>
  <dc:subject/>
  <dc:title>Honors English III</dc:title>
</cp:coreProperties>
</file>